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1.wmf" ContentType="image/x-wmf"/>
  <Override PartName="/ppt/media/image3.png" ContentType="image/png"/>
  <Override PartName="/ppt/media/image9.wmf" ContentType="image/x-wmf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jpeg" ContentType="image/jpeg"/>
  <Override PartName="/ppt/media/image1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2.png" ContentType="image/png"/>
  <Override PartName="/ppt/media/image10.wmf" ContentType="image/x-wmf"/>
  <Override PartName="/ppt/media/image8.wmf" ContentType="image/x-wmf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907588" cy="6858000"/>
  <p:notesSz cx="66595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6600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60560" cy="5317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marL="216000" indent="0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6"/>
          </p:nvPr>
        </p:nvSpPr>
        <p:spPr>
          <a:xfrm>
            <a:off x="3763800" y="-360"/>
            <a:ext cx="2859120" cy="5317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marL="216000" indent="0" algn="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661680" y="758880"/>
            <a:ext cx="537516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7"/>
          </p:nvPr>
        </p:nvSpPr>
        <p:spPr>
          <a:xfrm>
            <a:off x="0" y="9339120"/>
            <a:ext cx="2860560" cy="532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marL="216000" indent="0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8"/>
          </p:nvPr>
        </p:nvSpPr>
        <p:spPr>
          <a:xfrm>
            <a:off x="3763800" y="9339120"/>
            <a:ext cx="2859120" cy="532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DA6BAB4A-1F45-49CF-935A-0366590E5A49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Chciałbym zaprezentować Państw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najważniejsze tezy mojej pracy doktorskiej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Temat pracy brzmi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Algorytmy neuronowe i statystycz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 wizualizacji danych wielowymiarow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aca została wykonana w Katedrze Metod Komputerowych UM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od kierunkiem profesora Włodzisława Duch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amoorganizująca się sieć Kohonena jest siecią dwuwarstwową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 której warstwa wyjściow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jest siatką neuronów oddziałujących lateralni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 wyrażeniu ... mi jest wektorem wag neuronu "i"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a hci jest tzw. funkcją sąsiedztwa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zięki której relacje bliskości danych są zachowane na mapi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o najważniejszych zalet tego modelu należy to, że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okonuje jednocześnie redukcji wymiarowośc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oraz klasteryzacji danych wielowymiarowyc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aje możliwość zastosowania do dużych baz dany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lub danych w czasie ich napływan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Ograniczenia modelu SOM,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niekształcenie związane z niedopasowaniem kształtu map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o ogólnego kształtu danych, efekt „brzegowy”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yskretyzacja przestrzeni wyjściowej (siatka neuronów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Efekt lokalnego powiększania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lasteryzacja i klasyfikacja nie optymaln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onieczność wyboru wielu parametrów uczenia sie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zejdźmy teraz do skalowania wielowymiaroweg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Główną ideą tej metody jest zminimalizowanie funkcji błę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tzw. stresu, gdzie deltaij jest miarą odmienności obiektów i oraz  j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ij jest odległością w przestrzeni niskowymiarowej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 literaturze przedstawiono różne metody optymalizacj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astosowane w tym cel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Algorytm MDS w niniejszej pracy ulepszono w sposób następując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Ustalono pewną strategię wyboru konfiguracji początkowej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oces minimalizacji stresu został ulepszon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zięki optymalizacji skoku wzdłuż gradientu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tworzono możliwość dorzutowania nowych dan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tymalny skok dla metody największego spadk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iera się na aproksymacji funkcji S formą kwadratow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trzymujemy następujące wyrażenie, w którym można dokona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elu analitycznych uproszczeń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orównano metodę największego spadku z optymalnym skokiem (OSD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 metodą sprzężonych gradientów (CO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oraz z tzw. rzutowaniem Sammon’a (SAM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Na pierwszym wykresie widzimy szybs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i bardziej regularne zbieganie się minimalizacji metodą OS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rugi wykres przedstawia końcowe wartości stresu dla stu różnych pró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idzimy niższe wartości średnią oraz minimalną dla OS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Reasumując: zalety ulepszonej metody są następują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uwzględnianie krzywizny funkcji S() w punkcie Y(k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zy jednocześnie mniejszej kosztownoś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niż prawdziwa metoda drugiego rzędu (n.p. metoda Newton’a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jest w sumie szybsza niż metoda gradientów sprzężonyc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oces minimalizacji przebiega w sposób bardziej kontrolowany ni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metodą rzutowania Sammon’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Główną wadą jest jej liniowa zbieżność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ołączona przez mnie generalizacja polega na minimalizacji nowego stresu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 którym występują odległości miedzy nowym punk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(lub nowymi punkta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a punktami wcześniej rzutowanymi tak zwanej baz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ostać stresu jest przedstawiona poniższym wzor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Na podstawie przeprowadzonych badań można wnioskować, ż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MultiStart z minimalizacją gradientową jest zadowalającym rozwiązani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la małych zbiorów (do 100 punktów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osiada względną szybkość rzutowania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możliwość kontroli obszarów danych, które należy lepiej odwzorowywać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możliwość wizualizacji dużych zbiorów danych w celu ich eksploracj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(n.p. bazy tekstów) lub danych napływających w czas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(n.p. monitoring procesów przemysłowych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ady zaproponowanego modelu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łożoność obliczeniowa rzędu </a:t>
            </a:r>
            <a:r>
              <a:rPr b="1" i="1" lang="pl-PL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pl-PL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pl-PL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- liczba punktów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liczne lokalne minima (czułość na warunki początkow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aimplementowany interakcyjny program iMDS został zastosow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o wizualizacji danych psychometrycznyc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Były to dane trzynasto-wymiarowe opisujące przypadki chorób psychiczn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idzimy, że MDS pozwala na lepsze odseparowanie różnych kl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(Na przykład klasy ‘norma’ - granatowa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sychopatia’ - niebieska, turkusow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organika’ - purpurow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olejnym zastosowaniem metod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jest zoomowanie w sąsiedztwi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ybranego pacjenta bazy psychometrycznej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achowano i rzutowa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 najbliższych sąsiadów w przestrzeni ce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la k równego 500, 200, 50, 20, 10 i 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ońcowe wartości stresu są wskaźnikiem jakości odwzorowan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7520" y="4708080"/>
            <a:ext cx="511812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asadnicze cele mojej pracy zawierają się w następujących punktach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zedstawienie przeglądu istniejących metod wizualizacyjny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la danych wielowymiarow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orównanie dwóch wybranych metod: skalowania wielowymiarowego (M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i samoorganizujących się map Kohonena (SO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 punktu widzenia zachowania topografii dan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Interakcyjna eksploracja danych medycznych oraz wizualizacj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granic decyzji klasyfikatorów jako narzędzie wspomagające diagnoz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0720" y="4708080"/>
            <a:ext cx="587232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Ostatnim zastosowaniem j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izualizacja granic decyzji sieci neuronowej IncN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Generowano przypadkowe punkty według rozkładu Gausowskie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 sąsiedztwie interesującego nas punktu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klasyfikowano i dorzutowano do obrazu najbliższych sąsiadów z baz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Można skorelować pozycję oraz ostrość granicy decyzj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 prawdopodobieństwami podanymi przez klasyfikator IncN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orzutowane punkty są w obszarze większego zagęszczen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Tam gdzie klasyfikator podał duże prawdopodobieństwo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lasy są dobrze odseparowan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iedy prawdopodobieństwa są mniejsz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lasy są przemiesza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01560" y="4708080"/>
            <a:ext cx="557064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onkluzje moich badań są następują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aktyczne porównanie algorytmów SOM i MDS pozwala wnioskować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iż MDS jest lepszym narzędziem do odwzorowywania struktur dany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ięc lepiej się nadaje do ich interakcyjnej eksploracj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kalowanie wielowymiarowe zostało ulepszone i dostosowa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o interakcyjnej eksploracji wielowymiarowych dan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omyślnie zastosowano metodę MDS do wizualizacji wielowymiarowy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anych medycznych oraz do wizualizacji granic decyzji klasyfikatora.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 dalszej perspektywie można zaproponować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badania nad minimalizacją stresu metodą gradientową z MultiStart’e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co jest uzasadnione w przypadku małych zbiorów danyc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la większych zbiorów, należy poszukiwać tańszych metod globaln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ogram iMDS przedstawiający 2-wymiarową konfigurację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jest przygotowaniem do wizualizacji w 3 wymiara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Można również myśleć o interaktywnej wizualizacj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uwzględniającej informację klasow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i o wizualizacji lokalnych poziomów zniekształceń relacji sąsiedztwa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np. za pomocą Minimalnego Drzewa Rozpinająceg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ziękuję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łówne tezy mojej rozprawy są następują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mplementacja polepszonego algorytmu M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zwala na włączenie go w narzędzie interakcyjnej eksploracji dany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raz wizualizacji granic decyzji wybranego klasyfikator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tody ekstrakcji cech mogą z sukcesem być zastosowa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 wizualizacji danych wielowymiarow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kalowanie wielowymiarowe jest lepiej przystosowa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 odwzorowywania topografii danych niż mapy samoorganizujące się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Realizacja przedstawionych celów prac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zebiegała według następującego planu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unkt pierwszy: Cele wizualizacji danych wielowymiarowy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zegląd metod pozwalających na wizualizacj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amoorganizujące się mapy Kohonena (SO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Metody skalowania wielowymiarowego (M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astosowania zoptymalizowanej metody M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onkluzje i perspektyw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01200" y="4708080"/>
            <a:ext cx="519444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Na wstępie rozprawy omówiłem cele wizualizacji danych wielowymiarow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zięki wizualizacji, możliwe jest poznanie dany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oprzez określenie ich globalnej struktury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ykrywanie obecności klasterów i danych odstając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izualizacja dotyczy danych numerycznyc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(wystarczy możliwość określenia podobieństw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ama wizualizacja polega na przedstawieniu wykresów punktowy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 których istotne są relacje sąsiedztw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 dalszej części pracy przedstawion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metody wizualizacji danych wielowymiarowy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odzielone na liniowe oraz nieliniow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Celem tego przeglądu było umożliwienie wyboru metod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najbardziej odpowiedniej do wizualizacj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ezentowanych w pracy dan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Analiza Czynników Głównych jest metodą statystyczną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tóra istnieje również w postaci sieci neuronowej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opartej na regule Hebb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yniki zastosowania każdej z metod różnią się rodzaje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achowanej informacj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kalowanie wielowymiarowe pozwala zachować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 uczytelnić odległości lub dane odmienności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wie kolejne metody zaprezentowane w tabel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ą wersjami MDS w postaci sieci neuronowej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py samoorganizujące się są skonstruowane w taki sposób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by zachować relacje sąsiedztw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Ze względu na zachowywane informacje do dalszych badań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ytypowano właśnie metody MDS i S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dano również metodę liniową Analizę Składników główny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nieważ została ona wybrana jako inicjalizacja dla metod nieliniow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chnika rozkładu na wartości osobliwe okazała się lepsz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 została wykorzystana w dalszej części pra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Rzutowanie liniowe nie pozwala na optymalną wizualizację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biorów o nieliniowej strukturz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Na przykład sympleks w 5-ciu wymiarach zobrazowany tą metod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ma 3 wierzchołki zgrupowan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natomiast przy zastosowaniu metody nieliniowej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szystkie sześć wierzchołków jest odseparowa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53A2E-C4B4-4F15-8BD3-B989168459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12920" y="3995280"/>
            <a:ext cx="91627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6BB28-3764-4B36-AF9E-C1FE2A8DFB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08040" y="144792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12920" y="399528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08040" y="399528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84085-41E2-4BA1-B101-B137CD5D1E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2950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11080" y="1447920"/>
            <a:ext cx="2950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09240" y="1447920"/>
            <a:ext cx="2950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12920" y="3995280"/>
            <a:ext cx="2950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11080" y="3995280"/>
            <a:ext cx="2950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09240" y="3995280"/>
            <a:ext cx="2950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7A2F0-4956-488C-8B8A-E837ACF3D0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45B9CB-0D83-43A4-9B7C-6455218EF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CCE86C-771F-4035-9F04-FECE6B19E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EF71E6-9D34-47B3-8EAC-816821D6B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44712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08040" y="1447920"/>
            <a:ext cx="44712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3DA820-8CBF-4489-BF54-93CF4BACB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63E0A5-F5A7-43C2-9E56-48C05D9F0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12560" y="228240"/>
            <a:ext cx="90802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C1AC2E-6908-4E2B-93EE-76459E4AC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08040" y="1447920"/>
            <a:ext cx="44712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12920" y="399528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D373B1-589C-417A-B9B4-3ECE405E2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4D45A-648D-4D74-AF2A-C3251DEE8A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44712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08040" y="144792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108040" y="399528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B8F32A-12D2-433B-ACE2-71F35A0F2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08040" y="144792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12920" y="3995280"/>
            <a:ext cx="91627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CFBDF9-5B28-4B39-817C-D1438C36F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12920" y="3995280"/>
            <a:ext cx="91627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0331F3-5AE8-4517-AECE-74CD9F864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08040" y="144792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12920" y="399528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108040" y="399528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3EEA54-1E70-42CA-B312-F67762090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2950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11080" y="1447920"/>
            <a:ext cx="2950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09240" y="1447920"/>
            <a:ext cx="2950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12920" y="3995280"/>
            <a:ext cx="2950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11080" y="3995280"/>
            <a:ext cx="2950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609240" y="3995280"/>
            <a:ext cx="2950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2E19F8-479B-4FD5-9BA5-A9B05EA9F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B776A-69F0-45D2-8772-D92C899D0B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44712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8040" y="1447920"/>
            <a:ext cx="44712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BE355-9321-4BEE-A074-60581F28E3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166F7-918F-4D59-A960-5FC43AB149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12560" y="228240"/>
            <a:ext cx="90802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D119E-2334-4B36-97DB-6F776CD3A1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08040" y="1447920"/>
            <a:ext cx="44712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12920" y="399528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50BC4-F4FD-444C-A06B-4E776DDD91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44712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08040" y="144792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08040" y="399528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96F3B-15F4-4F1B-A3A8-81A6EE4B56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08040" y="144792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12920" y="3995280"/>
            <a:ext cx="91627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54844-0F7C-4003-8445-DDC808A07E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632040" y="0"/>
            <a:ext cx="6274080" cy="152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9575640" y="0"/>
            <a:ext cx="0" cy="2362320"/>
          </a:xfrm>
          <a:prstGeom prst="line">
            <a:avLst/>
          </a:prstGeom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164880" y="1219320"/>
            <a:ext cx="1933560" cy="2324160"/>
            <a:chOff x="164880" y="1219320"/>
            <a:chExt cx="1933560" cy="2324160"/>
          </a:xfrm>
        </p:grpSpPr>
        <p:sp>
          <p:nvSpPr>
            <p:cNvPr id="3" name=""/>
            <p:cNvSpPr/>
            <p:nvPr/>
          </p:nvSpPr>
          <p:spPr>
            <a:xfrm flipH="1">
              <a:off x="164880" y="1316880"/>
              <a:ext cx="1933560" cy="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75480" y="1222560"/>
              <a:ext cx="0" cy="23209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71080" y="1219320"/>
              <a:ext cx="208800" cy="192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9" y="3"/>
                  </a:moveTo>
                  <a:arcTo wR="10800" hR="10800" stAng="-5476576" swAng="1620404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9" y="3"/>
                  </a:moveTo>
                  <a:arcTo wR="10800" hR="10800" stAng="-5476576" swAng="16204040"/>
                </a:path>
              </a:pathLst>
            </a:cu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0920" indent="-25092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62040" indent="-220680">
              <a:spcBef>
                <a:spcPts val="1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-228600">
              <a:spcBef>
                <a:spcPts val="1400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3" marL="1500120" indent="-228600">
              <a:spcBef>
                <a:spcPts val="1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4" marL="1919160" indent="-228600">
              <a:spcBef>
                <a:spcPts val="1400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5" marL="1919160" indent="-228600">
              <a:spcBef>
                <a:spcPts val="1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6" marL="1919160" indent="-228600">
              <a:spcBef>
                <a:spcPts val="1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990360" y="6400440"/>
            <a:ext cx="7924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8915400" y="6400440"/>
            <a:ext cx="660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02B1A-3DC8-41D6-9A81-AFBEBB08EC72}" type="slidenum">
              <a:rPr b="1" lang="en-US" sz="16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632040" y="0"/>
            <a:ext cx="6274080" cy="152280"/>
          </a:xfrm>
          <a:prstGeom prst="rect">
            <a:avLst/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575640" y="0"/>
            <a:ext cx="0" cy="2362320"/>
          </a:xfrm>
          <a:prstGeom prst="line">
            <a:avLst/>
          </a:prstGeom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70120" y="887400"/>
            <a:ext cx="0" cy="2846520"/>
          </a:xfrm>
          <a:prstGeom prst="line">
            <a:avLst/>
          </a:prstGeom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 flipV="1">
            <a:off x="4680" y="3050640"/>
            <a:ext cx="5523120" cy="1800"/>
          </a:xfrm>
          <a:prstGeom prst="line">
            <a:avLst/>
          </a:prstGeom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 flipV="1">
            <a:off x="660240" y="1219320"/>
            <a:ext cx="6554880" cy="1440"/>
          </a:xfrm>
          <a:prstGeom prst="line">
            <a:avLst/>
          </a:prstGeom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 rot="16200000">
            <a:off x="752760" y="1056600"/>
            <a:ext cx="247320" cy="26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559" y="3"/>
                </a:moveTo>
                <a:arcTo wR="10800" hR="10800" stAng="-5476576" swAng="16204040"/>
                <a:lnTo>
                  <a:pt x="10800" y="10800"/>
                </a:lnTo>
                <a:close/>
              </a:path>
              <a:path fill="none" w="21600" h="21600">
                <a:moveTo>
                  <a:pt x="10559" y="3"/>
                </a:moveTo>
                <a:arcTo wR="10800" hR="10800" stAng="-5476576" swAng="16204040"/>
              </a:path>
            </a:pathLst>
          </a:cu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971800" y="3809880"/>
            <a:ext cx="6548040" cy="2876400"/>
            <a:chOff x="2971800" y="3809880"/>
            <a:chExt cx="6548040" cy="2876400"/>
          </a:xfrm>
        </p:grpSpPr>
        <p:sp>
          <p:nvSpPr>
            <p:cNvPr id="53" name=""/>
            <p:cNvSpPr/>
            <p:nvPr/>
          </p:nvSpPr>
          <p:spPr>
            <a:xfrm>
              <a:off x="2971800" y="6175080"/>
              <a:ext cx="6548040" cy="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9320400" y="3809880"/>
              <a:ext cx="0" cy="287640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rot="5400000">
              <a:off x="9200880" y="6013440"/>
              <a:ext cx="247320" cy="268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9" y="3"/>
                  </a:moveTo>
                  <a:arcTo wR="10800" hR="10800" stAng="-5476576" swAng="1620404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9" y="3"/>
                  </a:moveTo>
                  <a:arcTo wR="10800" hR="10800" stAng="-5476576" swAng="16204040"/>
                </a:path>
              </a:pathLst>
            </a:cu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72800" y="1371240"/>
            <a:ext cx="84200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3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4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5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11CDC-A1B7-4F04-964A-D952B1D5985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44136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852480" algn="ctr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27152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69056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69056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69056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2800" y="1371240"/>
            <a:ext cx="84200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Algorytmy neuronowe i statystyczne 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w wizualizacji danych wielowymiarowych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07560" y="3733920"/>
            <a:ext cx="82551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0458c"/>
                </a:solidFill>
                <a:latin typeface="Tahoma"/>
              </a:rPr>
              <a:t>Antoine Nau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 algn="r">
              <a:lnSpc>
                <a:spcPct val="16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romotor: prof. W. Duch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Katedra Metod Komputerowych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Uniwersytet Mikołaja Kopernika w Toruniu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06" name="UMK" descr=""/>
          <p:cNvPicPr/>
          <p:nvPr/>
        </p:nvPicPr>
        <p:blipFill>
          <a:blip r:embed="rId1"/>
          <a:stretch/>
        </p:blipFill>
        <p:spPr>
          <a:xfrm>
            <a:off x="1155600" y="3733920"/>
            <a:ext cx="140328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42680" y="3045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3.1. Samoorganizująca się sieć Kohonena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09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eć dwuwarstwowa, uczenie konkurencyjne (zwycięzca bierze większość)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577800" y="1752480"/>
          <a:ext cx="4044960" cy="47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00" y="1752480"/>
                    <a:ext cx="404496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5602320" y="1752480"/>
          <a:ext cx="3738600" cy="47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02320" y="1752480"/>
                    <a:ext cx="373860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1" name="kohopol" descr=""/>
          <p:cNvPicPr/>
          <p:nvPr/>
        </p:nvPicPr>
        <p:blipFill>
          <a:blip r:embed="rId5"/>
          <a:stretch/>
        </p:blipFill>
        <p:spPr>
          <a:xfrm>
            <a:off x="825480" y="2227320"/>
            <a:ext cx="7677000" cy="4630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37A35-C779-4A98-B87C-5A783D22D4E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3.2. Samoorganizująca się sieć Kohonena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25056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Zalety modelu SOM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2114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Dokonuje jednocześnie redukcji wymiarowości oraz klasteryzacji danych wielowymiarowych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114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Możliwość zastosowania do dużych baz danych lub danych w czasie ich napływani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80880" indent="-25056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graniczenia modelu SOM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2114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Zniekształcenie związane z niedopasowaniem kształtu mapy do ogólnego kształtu danych, efekt „brzegowy”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114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Dyskretyzacja przestrzeni wyjściowej (siatka neuronów)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114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fekt lokalnego powiększania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114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Klasteryzacja i klasyfikacja nie optymalne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114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Konieczność wyboru wielu parametrów uczenia sieci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920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A59AF-D26F-4877-A76F-B332518372C8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4.1. Skalowanie wielowymiarowe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66240" indent="-288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Ścisła definicja skalowania wielowymiarowego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4233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Dla zbioru </a:t>
            </a:r>
            <a:r>
              <a:rPr b="0" i="1" lang="pl-PL" sz="2000" spc="-1" strike="noStrike">
                <a:solidFill>
                  <a:srgbClr val="40458c"/>
                </a:solidFill>
                <a:latin typeface="Tahoma"/>
              </a:rPr>
              <a:t>N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 obiektów, mamy pomiary {</a:t>
            </a:r>
            <a:r>
              <a:rPr b="0" lang="pl-PL" sz="2400" spc="-1" strike="noStrike">
                <a:solidFill>
                  <a:srgbClr val="40458c"/>
                </a:solidFill>
                <a:latin typeface="Symbol"/>
                <a:ea typeface="Symbol"/>
              </a:rPr>
              <a:t></a:t>
            </a:r>
            <a:r>
              <a:rPr b="0" lang="pl-PL" sz="2400" spc="-1" strike="noStrike" baseline="-25000">
                <a:solidFill>
                  <a:srgbClr val="40458c"/>
                </a:solidFill>
                <a:latin typeface="Tahoma"/>
              </a:rPr>
              <a:t>ij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} odmienności (ang. dissimilarity) dla wszystkich par obiektów (i,j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4233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Szukamy niskowymiarowej przestrzeni M, w której jeden punkt </a:t>
            </a:r>
            <a:r>
              <a:rPr b="1" lang="pl-PL" sz="2000" spc="-1" strike="noStrike">
                <a:solidFill>
                  <a:srgbClr val="40458c"/>
                </a:solidFill>
                <a:latin typeface="Tahoma"/>
              </a:rPr>
              <a:t>y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 reprezentuje jeden obiekt </a:t>
            </a:r>
            <a:r>
              <a:rPr b="1" lang="pl-PL" sz="2000" spc="-1" strike="noStrike">
                <a:solidFill>
                  <a:srgbClr val="40458c"/>
                </a:solidFill>
                <a:latin typeface="Tahoma"/>
              </a:rPr>
              <a:t>x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 w taki sposób, by odległości {d</a:t>
            </a:r>
            <a:r>
              <a:rPr b="0" lang="pl-PL" sz="2400" spc="-1" strike="noStrike" baseline="-25000">
                <a:solidFill>
                  <a:srgbClr val="40458c"/>
                </a:solidFill>
                <a:latin typeface="Tahoma"/>
              </a:rPr>
              <a:t>ij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} między punktami {</a:t>
            </a:r>
            <a:r>
              <a:rPr b="1" lang="pl-PL" sz="2000" spc="-1" strike="noStrike">
                <a:solidFill>
                  <a:srgbClr val="40458c"/>
                </a:solidFill>
                <a:latin typeface="Tahoma"/>
              </a:rPr>
              <a:t>y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} były jak najlepiej dopasowane do odmienności {</a:t>
            </a:r>
            <a:r>
              <a:rPr b="0" lang="pl-PL" sz="2400" spc="-1" strike="noStrike">
                <a:solidFill>
                  <a:srgbClr val="40458c"/>
                </a:solidFill>
                <a:latin typeface="Symbol"/>
                <a:ea typeface="Symbol"/>
              </a:rPr>
              <a:t></a:t>
            </a:r>
            <a:r>
              <a:rPr b="0" lang="pl-PL" sz="2400" spc="-1" strike="noStrike" baseline="-25000">
                <a:solidFill>
                  <a:srgbClr val="40458c"/>
                </a:solidFill>
                <a:latin typeface="Tahoma"/>
              </a:rPr>
              <a:t>ij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}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66240" indent="-288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Skalowanie metodą najmniejszych kwadratów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833040" indent="-2214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Minimalizacja funkcji błędu (badness-of-fit), tzw. stresu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42336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2336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833040" indent="-2214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Metody optymalizacji: lokalne (coordinate or gradient descent), globalne (majorizing function, wygładzanie stresu) lub inferencyjne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981080" y="4648320"/>
          <a:ext cx="5553360" cy="107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4648320"/>
                    <a:ext cx="555336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A8CE0-304A-406C-98AE-5F3850DC039E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4.2. Skalowanie wielowymiarowe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5092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Ulepszenia wniesione do algorytmu MDS 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1640" indent="-220680">
              <a:spcBef>
                <a:spcPts val="9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Wybór początkowej konfiguracji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732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PCA + MultiStar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1640" indent="-220680">
              <a:spcBef>
                <a:spcPts val="9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Przyspieszenie oraz ulepszenie procesu zbiegania się minimalizacji stresu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73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optymalizacja skoku wzdłuż gradientu w metodzi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73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największego spadku uwzględniając drugie pochodn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1640" indent="-220680">
              <a:spcBef>
                <a:spcPts val="9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Generalizacja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73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możliwość dorzutowania nowych danych przez MD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73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do istniejącego rzutowani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33D15-32ED-4E50-B543-DC175DC3C24D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4.3. Skalowanie wielowymiarowe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662040" indent="-220680">
              <a:spcBef>
                <a:spcPts val="9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ptymalny skok dla metody największego spadku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2890800" y="1941480"/>
          <a:ext cx="4041720" cy="53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0800" y="1941480"/>
                    <a:ext cx="4041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407880" y="2895480"/>
          <a:ext cx="9498240" cy="766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7880" y="2895480"/>
                    <a:ext cx="949824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1198440" y="3706920"/>
          <a:ext cx="6853320" cy="828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98440" y="3706920"/>
                    <a:ext cx="685332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2800440" y="4648320"/>
          <a:ext cx="3801960" cy="1384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00440" y="4648320"/>
                    <a:ext cx="3801960" cy="13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1022760" y="2514600"/>
            <a:ext cx="747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Aproksymacja funkcji </a:t>
            </a:r>
            <a:r>
              <a:rPr b="0" i="1" lang="pl-PL" sz="2000" spc="-1" strike="noStrike">
                <a:solidFill>
                  <a:srgbClr val="40458c"/>
                </a:solidFill>
                <a:latin typeface="Tahoma"/>
              </a:rPr>
              <a:t>S(</a:t>
            </a:r>
            <a:r>
              <a:rPr b="0" i="1" lang="pl-PL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·</a:t>
            </a:r>
            <a:r>
              <a:rPr b="0" i="1" lang="pl-PL" sz="2000" spc="-1" strike="noStrike">
                <a:solidFill>
                  <a:srgbClr val="40458c"/>
                </a:solidFill>
                <a:latin typeface="Tahoma"/>
              </a:rPr>
              <a:t>)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 formą kwadratową (szereg Taylora)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4CD4F-31A5-4146-BE35-1689E47CAE8D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4.4. Skalowanie wielowymiarowe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662040" indent="-220680">
              <a:spcBef>
                <a:spcPts val="9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orównanie procesu minimalizacji z innymi metodami 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53" name="conv" descr=""/>
          <p:cNvPicPr/>
          <p:nvPr/>
        </p:nvPicPr>
        <p:blipFill>
          <a:blip r:embed="rId1"/>
          <a:stretch/>
        </p:blipFill>
        <p:spPr>
          <a:xfrm>
            <a:off x="247680" y="1828800"/>
            <a:ext cx="9327960" cy="460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0471B-9D2C-452C-9D0C-C68A9D07377B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4.5. Skalowanie wielowymiarowe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50920">
              <a:spcBef>
                <a:spcPts val="1199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Zalety metody największego spadku z optymalnym skokiem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20680" indent="-228600"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uwzględnianie krzywizny funkcji </a:t>
            </a:r>
            <a:r>
              <a:rPr b="0" i="1" lang="pl-PL" sz="1800" spc="-1" strike="noStrike">
                <a:solidFill>
                  <a:srgbClr val="40458c"/>
                </a:solidFill>
                <a:latin typeface="Tahoma"/>
              </a:rPr>
              <a:t>S()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 w punkcie </a:t>
            </a:r>
            <a:r>
              <a:rPr b="0" i="1" lang="pl-PL" sz="1800" spc="-1" strike="noStrike">
                <a:solidFill>
                  <a:srgbClr val="40458c"/>
                </a:solidFill>
                <a:latin typeface="Tahoma"/>
              </a:rPr>
              <a:t>Y</a:t>
            </a:r>
            <a:r>
              <a:rPr b="0" i="1" lang="pl-PL" sz="1800" spc="-1" strike="noStrike" baseline="30000">
                <a:solidFill>
                  <a:srgbClr val="40458c"/>
                </a:solidFill>
                <a:latin typeface="Tahoma"/>
              </a:rPr>
              <a:t>(k)</a:t>
            </a:r>
            <a:r>
              <a:rPr b="0" i="1" lang="pl-PL" sz="1800" spc="-1" strike="noStrike">
                <a:solidFill>
                  <a:srgbClr val="40458c"/>
                </a:solidFill>
                <a:latin typeface="Tahoma"/>
              </a:rPr>
              <a:t>,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 przy jednocześnie mniejszej kosztowności niż prawdziwa metoda drugiego rzędu          (n.p. metoda Newton’a),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20680" indent="-228600"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jest w sumie szybsza niż metoda gradientów sprzężonych,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20680" indent="-228600"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proces minimalizacji przebiega w sposób bardziej kontrolowany niż metodą rzutowania Sammon’a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290520" indent="-250920">
              <a:spcBef>
                <a:spcPts val="1199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Wady metody największego spadku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20680" indent="-228600"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liniowa zbieżność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290520" indent="-250920">
              <a:lnSpc>
                <a:spcPct val="80000"/>
              </a:lnSpc>
              <a:spcBef>
                <a:spcPts val="1199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Dołączenie generalizacji do MDSu: „względny” MD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20680" indent="-228600"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N</a:t>
            </a:r>
            <a:r>
              <a:rPr b="0" lang="pl-PL" sz="1800" spc="-1" strike="noStrike" baseline="-10000">
                <a:solidFill>
                  <a:srgbClr val="40458c"/>
                </a:solidFill>
                <a:latin typeface="Tahoma"/>
              </a:rPr>
              <a:t>b 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– liczba punktów wcześniej rzutowanych     (b – baza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20680" indent="-228600">
              <a:lnSpc>
                <a:spcPct val="7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N</a:t>
            </a:r>
            <a:r>
              <a:rPr b="0" lang="pl-PL" sz="1800" spc="-1" strike="noStrike" baseline="-10000">
                <a:solidFill>
                  <a:srgbClr val="40458c"/>
                </a:solidFill>
                <a:latin typeface="Tahoma"/>
              </a:rPr>
              <a:t>n 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– liczba nowych punktów do dorzutowania  (n – nowe dane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95280" y="5486400"/>
          <a:ext cx="9180360" cy="101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5486400"/>
                    <a:ext cx="918036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19783-5D48-455B-AB78-DFAD03C0922C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4.6. Skalowanie wielowymiarowe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250560">
              <a:lnSpc>
                <a:spcPct val="90000"/>
              </a:lnSpc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Zalety zaproponowanego modelu 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92000" indent="-220320">
              <a:lnSpc>
                <a:spcPct val="90000"/>
              </a:lnSpc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MultiStart z minimalizacją gradientową jest zadowalającym rozwiązaniem dla małych zbiorów (do 100 punktów)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92000" indent="-220320">
              <a:lnSpc>
                <a:spcPct val="90000"/>
              </a:lnSpc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względna szybkość rzutowania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92000" indent="-220320">
              <a:lnSpc>
                <a:spcPct val="90000"/>
              </a:lnSpc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możliwość kontroli obszarów danych, które należy lepiej odwzorowywać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92000" indent="-220320">
              <a:lnSpc>
                <a:spcPct val="90000"/>
              </a:lnSpc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możliwość wizualizacji dużych zbiorów danych w celu ich eksploracji (n.p. bazy tekstów) lub danych napływających w czasie (n.p. monitoring procesów przemysłowych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80880" indent="-250560">
              <a:lnSpc>
                <a:spcPct val="90000"/>
              </a:lnSpc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Wady zaproponowanego modelu 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92000" indent="-220320">
              <a:lnSpc>
                <a:spcPct val="90000"/>
              </a:lnSpc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złożoność obliczeniowa rzędu </a:t>
            </a:r>
            <a:r>
              <a:rPr b="0" i="1" lang="pl-PL" sz="2000" spc="-1" strike="noStrike">
                <a:solidFill>
                  <a:srgbClr val="40458c"/>
                </a:solidFill>
                <a:latin typeface="Tahoma"/>
              </a:rPr>
              <a:t>N</a:t>
            </a:r>
            <a:r>
              <a:rPr b="0" i="1" lang="pl-PL" sz="2000" spc="-1" strike="noStrike" baseline="30000">
                <a:solidFill>
                  <a:srgbClr val="40458c"/>
                </a:solidFill>
                <a:latin typeface="Tahoma"/>
              </a:rPr>
              <a:t>2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 (</a:t>
            </a:r>
            <a:r>
              <a:rPr b="0" i="1" lang="pl-PL" sz="2000" spc="-1" strike="noStrike">
                <a:solidFill>
                  <a:srgbClr val="40458c"/>
                </a:solidFill>
                <a:latin typeface="Tahoma"/>
              </a:rPr>
              <a:t>N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 - liczba punktów)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92000" indent="-220320">
              <a:lnSpc>
                <a:spcPct val="90000"/>
              </a:lnSpc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liczne lokalne minima (czułość na warunki początkowe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920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604DC-1327-4399-807D-343317C01416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5.1. Zastosowania zoptymalizowanej metody MD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84280" y="1519200"/>
            <a:ext cx="88200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lvl="1" marL="641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40458c"/>
                </a:solidFill>
                <a:uFillTx/>
                <a:latin typeface="Tahoma"/>
              </a:rPr>
              <a:t>Program </a:t>
            </a:r>
            <a:r>
              <a:rPr b="1" lang="pl-PL" sz="1800" spc="-1" strike="noStrike" u="sng">
                <a:solidFill>
                  <a:srgbClr val="40458c"/>
                </a:solidFill>
                <a:uFillTx/>
                <a:latin typeface="Tahoma"/>
              </a:rPr>
              <a:t>iMDS</a:t>
            </a:r>
            <a:r>
              <a:rPr b="0" lang="pl-PL" sz="1800" spc="-1" strike="noStrike" u="sng">
                <a:solidFill>
                  <a:srgbClr val="40458c"/>
                </a:solidFill>
                <a:uFillTx/>
                <a:latin typeface="Tahoma"/>
              </a:rPr>
              <a:t> zaimplementowany w śr Windows został zastosowany do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243360" indent="-243360">
              <a:lnSpc>
                <a:spcPct val="90000"/>
              </a:lnSpc>
              <a:spcBef>
                <a:spcPts val="1199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wizualizacji danych psychometrycznych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(test MMPI)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41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40458c"/>
                </a:solidFill>
                <a:latin typeface="Tahoma"/>
              </a:rPr>
              <a:t>550 pytań </a:t>
            </a:r>
            <a:r>
              <a:rPr b="0" lang="pl-PL" sz="1600" spc="-1" strike="noStrike">
                <a:solidFill>
                  <a:srgbClr val="40458c"/>
                </a:solidFill>
                <a:latin typeface="Symbol"/>
                <a:ea typeface="Symbol"/>
              </a:rPr>
              <a:t></a:t>
            </a:r>
            <a:r>
              <a:rPr b="0" lang="pl-PL" sz="1600" spc="-1" strike="noStrike">
                <a:solidFill>
                  <a:srgbClr val="40458c"/>
                </a:solidFill>
                <a:latin typeface="Tahoma"/>
              </a:rPr>
              <a:t> 13 skal (20-120), 20 klas nozologicznych (kobiety/mężczyźni)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24336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4336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4336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4336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4336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43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243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wizualizacja przez PCA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 wizualizacja przez MD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24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S</a:t>
            </a:r>
            <a:r>
              <a:rPr b="0" lang="pl-PL" sz="1800" spc="-1" strike="noStrike" baseline="-10000">
                <a:solidFill>
                  <a:srgbClr val="40458c"/>
                </a:solidFill>
                <a:latin typeface="Tahoma"/>
              </a:rPr>
              <a:t>1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 = 0.065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S</a:t>
            </a:r>
            <a:r>
              <a:rPr b="0" lang="pl-PL" sz="1800" spc="-1" strike="noStrike" baseline="-10000">
                <a:solidFill>
                  <a:srgbClr val="40458c"/>
                </a:solidFill>
                <a:latin typeface="Tahoma"/>
              </a:rPr>
              <a:t>1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 = 0.021 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(PCA init., 142 iteracji)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62" name="allwoPCA" descr=""/>
          <p:cNvPicPr/>
          <p:nvPr/>
        </p:nvPicPr>
        <p:blipFill>
          <a:blip r:embed="rId1"/>
          <a:stretch/>
        </p:blipFill>
        <p:spPr>
          <a:xfrm>
            <a:off x="660240" y="2590920"/>
            <a:ext cx="4292640" cy="3170160"/>
          </a:xfrm>
          <a:prstGeom prst="rect">
            <a:avLst/>
          </a:prstGeom>
          <a:ln w="0">
            <a:noFill/>
          </a:ln>
        </p:spPr>
      </p:pic>
      <p:pic>
        <p:nvPicPr>
          <p:cNvPr id="163" name="allwoNLM" descr=""/>
          <p:cNvPicPr/>
          <p:nvPr/>
        </p:nvPicPr>
        <p:blipFill>
          <a:blip r:embed="rId2"/>
          <a:stretch/>
        </p:blipFill>
        <p:spPr>
          <a:xfrm>
            <a:off x="5118120" y="2590920"/>
            <a:ext cx="4292640" cy="317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5D849-A763-4B69-9F29-6FC30A4AD2BD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5.2. Zastosowania zoptymalizowanej metody MD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0920" indent="-250920">
              <a:lnSpc>
                <a:spcPct val="80000"/>
              </a:lnSpc>
              <a:spcBef>
                <a:spcPts val="1199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Zoomowanie w przestrzeni wybranej interakcyjnie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20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.p. zoomowanie w sąsiedztwie punktu nr 426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66" name="p426" descr=""/>
          <p:cNvPicPr/>
          <p:nvPr/>
        </p:nvPicPr>
        <p:blipFill>
          <a:blip r:embed="rId1"/>
          <a:stretch/>
        </p:blipFill>
        <p:spPr>
          <a:xfrm>
            <a:off x="1238400" y="2077920"/>
            <a:ext cx="7016760" cy="4780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8AC71-9C68-4004-8403-808D62774757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Cele pracy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0920" indent="-25092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zedstawienie przeglądu istniejących metod wizualizacyjnych dla danych wielowymiarowych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50920" indent="-25092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orównanie dwóch wybranych metod: skalowania wielowymiarowego (MDS) i samoorganizujących się map Kohonena (SOM) z punktu widzenia zachowania topografii danych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50920" indent="-25092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terakcyjna eksploracja danych medycznych oraz wizualizacja granic decyzji klasyfikatorów jako narzędzie wspomagające diagnozy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5092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5EFFE-03DC-49DF-A1FC-D9CB3859EE39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5.3. Zastosowania zoptymalizowanej metody MD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230760" indent="-230760">
              <a:lnSpc>
                <a:spcPct val="80000"/>
              </a:lnSpc>
              <a:spcBef>
                <a:spcPts val="1199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Wizualizacja granic decyzji klasyfikator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08760" indent="-20268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  <a:tab algn="l" pos="10834560"/>
              </a:tabLst>
            </a:pPr>
            <a:r>
              <a:rPr b="0" lang="pl-PL" sz="1600" spc="-1" strike="noStrike">
                <a:solidFill>
                  <a:srgbClr val="40458c"/>
                </a:solidFill>
                <a:latin typeface="Tahoma"/>
              </a:rPr>
              <a:t>generowanie nowych punktów </a:t>
            </a:r>
            <a:r>
              <a:rPr b="0" i="1" lang="pl-PL" sz="1600" spc="-1" strike="noStrike">
                <a:solidFill>
                  <a:srgbClr val="40458c"/>
                </a:solidFill>
                <a:latin typeface="Tahoma"/>
              </a:rPr>
              <a:t>przypadkowych w sąsiedztwie</a:t>
            </a:r>
            <a:r>
              <a:rPr b="0" lang="pl-PL" sz="1600" spc="-1" strike="noStrike">
                <a:solidFill>
                  <a:srgbClr val="40458c"/>
                </a:solidFill>
                <a:latin typeface="Tahoma"/>
              </a:rPr>
              <a:t> granicy decyzji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608760" indent="-20268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  <a:tab algn="l" pos="10834560"/>
              </a:tabLst>
            </a:pPr>
            <a:r>
              <a:rPr b="0" lang="pl-PL" sz="1600" spc="-1" strike="noStrike">
                <a:solidFill>
                  <a:srgbClr val="40458c"/>
                </a:solidFill>
                <a:latin typeface="Tahoma"/>
              </a:rPr>
              <a:t>n.p. bazy danych psychometrycznych, przypadki nr 554 i 426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608760" indent="-20268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  <a:tab algn="l" pos="10834560"/>
              </a:tabLst>
            </a:pPr>
            <a:r>
              <a:rPr b="0" lang="pl-PL" sz="1600" spc="-1" strike="noStrike">
                <a:solidFill>
                  <a:srgbClr val="40458c"/>
                </a:solidFill>
                <a:latin typeface="Tahoma"/>
              </a:rPr>
              <a:t>wizualizacja granic decyzji dla sieci neuronowej “IncNet”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608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  <a:tab algn="l" pos="1083456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lvl="1" marL="608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  <a:tab algn="l" pos="1083456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lvl="1" marL="608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  <a:tab algn="l" pos="1083456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lvl="1" marL="608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  <a:tab algn="l" pos="1083456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lvl="1" marL="608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  <a:tab algn="l" pos="1083456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23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23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23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23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23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23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23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23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23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23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23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pl-PL" sz="1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Assigned class: </a:t>
            </a:r>
            <a:r>
              <a:rPr b="1" lang="pl-PL" sz="1400" spc="-1" strike="noStrike">
                <a:solidFill>
                  <a:srgbClr val="40458c"/>
                </a:solidFill>
                <a:latin typeface="Tahoma"/>
              </a:rPr>
              <a:t>organic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 (p=0.826)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Assigned class: </a:t>
            </a:r>
            <a:r>
              <a:rPr b="1" lang="pl-PL" sz="1400" spc="-1" strike="noStrike">
                <a:solidFill>
                  <a:srgbClr val="40458c"/>
                </a:solidFill>
                <a:latin typeface="Tahoma"/>
              </a:rPr>
              <a:t>schizophrenia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 (p=0.428)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23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Alternative class: </a:t>
            </a:r>
            <a:r>
              <a:rPr b="1" lang="pl-PL" sz="1400" spc="-1" strike="noStrike">
                <a:solidFill>
                  <a:srgbClr val="40458c"/>
                </a:solidFill>
                <a:latin typeface="Tahoma"/>
              </a:rPr>
              <a:t>schizophrenia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 (p=0.062)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Alternative class: </a:t>
            </a:r>
            <a:r>
              <a:rPr b="1" lang="pl-PL" sz="1400" spc="-1" strike="noStrike">
                <a:solidFill>
                  <a:srgbClr val="40458c"/>
                </a:solidFill>
                <a:latin typeface="Tahoma"/>
              </a:rPr>
              <a:t>neurosis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 (p=0.309)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69" name="p554gauss" descr=""/>
          <p:cNvPicPr/>
          <p:nvPr/>
        </p:nvPicPr>
        <p:blipFill>
          <a:blip r:embed="rId1"/>
          <a:stretch/>
        </p:blipFill>
        <p:spPr>
          <a:xfrm>
            <a:off x="660240" y="2590920"/>
            <a:ext cx="3624480" cy="3581280"/>
          </a:xfrm>
          <a:prstGeom prst="rect">
            <a:avLst/>
          </a:prstGeom>
          <a:ln w="0">
            <a:noFill/>
          </a:ln>
        </p:spPr>
      </p:pic>
      <p:pic>
        <p:nvPicPr>
          <p:cNvPr id="170" name="p426gauss" descr=""/>
          <p:cNvPicPr/>
          <p:nvPr/>
        </p:nvPicPr>
        <p:blipFill>
          <a:blip r:embed="rId2"/>
          <a:stretch/>
        </p:blipFill>
        <p:spPr>
          <a:xfrm>
            <a:off x="5365800" y="2590920"/>
            <a:ext cx="3578040" cy="350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8846F-CAD4-4C5B-B0B4-53854D172841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6. Konkluzje i perspektywy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233280" indent="-233280">
              <a:lnSpc>
                <a:spcPct val="90000"/>
              </a:lnSpc>
              <a:spcBef>
                <a:spcPts val="100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Praktyczne porównanie algorytmów SOM i MDS pozwala wnioskować,    iż MDS jest lepszym narzędziem do odwzorowywania struktur danych więc lepiej się nadaje do ich interakcyjnej eksploracji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33280" indent="-233280">
              <a:lnSpc>
                <a:spcPct val="110000"/>
              </a:lnSpc>
              <a:spcBef>
                <a:spcPts val="100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Skalowanie wielowymiarowe zostało ulepszone i dostosowane do interakcyjnej eksploracji wielowymiarowych danych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33280" indent="-233280">
              <a:lnSpc>
                <a:spcPct val="110000"/>
              </a:lnSpc>
              <a:spcBef>
                <a:spcPts val="100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Pomyślnie zastosowano metodę MDS do wizualizacji wielowymiarowych danych medycznych oraz do wizualizacji granic decyzji klasyfikatora.                  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33280" indent="0">
              <a:lnSpc>
                <a:spcPct val="3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33280" indent="-233280">
              <a:lnSpc>
                <a:spcPct val="90000"/>
              </a:lnSpc>
              <a:spcBef>
                <a:spcPts val="100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Minimalizacja stresu metodą gradientową z MultiStart’em jest uzasadniona w przypadku małych zbiorów danych. Dla większych zbiorów, należy poszukiwać tańszych metod globalnych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33280" indent="-233280">
              <a:lnSpc>
                <a:spcPct val="90000"/>
              </a:lnSpc>
              <a:spcBef>
                <a:spcPts val="100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Program iMDS przedstawiający 2-wymiarową konfigurację jest przygotowaniem do wizualizacji w 3 wymiarach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33280" indent="-233280">
              <a:lnSpc>
                <a:spcPct val="90000"/>
              </a:lnSpc>
              <a:spcBef>
                <a:spcPts val="100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Interaktywna wizualizacja uwzględniająca informację klasową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33280" indent="-233280">
              <a:lnSpc>
                <a:spcPct val="90000"/>
              </a:lnSpc>
              <a:spcBef>
                <a:spcPts val="100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Wizualizacja lokalnych poziomów zniekształceń relacji sąsiedztwa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332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41471-45A8-4261-8E14-D4CB78C23570}" type="slidenum">
              <a:t>21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Tezy pracy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0920" indent="-25092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mplementacja polepszonego algorytmu MDS pozwala na włączenie go w narzędzie interakcyjnej eksploracji danych oraz wizualizacji granic decyzji wybranego klasyfikator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50920" indent="-25092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etody ekstrakcji cech mogą z sukcesem być zastosowane do wizualizacji danych wielowymiarowych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50920" indent="-25092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kalowanie wielowymiarowe jest lepiej przystosowane do odwzorowywania topografii danych niż mapy samoorganizujące się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C7049-13EB-4681-92F2-C012B1D0373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Plan pracy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7780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1.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ele wizualizacji danych wielowymiarowych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7780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2.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zegląd metod pozwalających na wizualizację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7780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3.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amoorganizujące się mapy Kohonena (SOM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7780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4.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etody skalowania wielowymiarowego (MDS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7780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5.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Zastosowania zoptymalizowanej metody MD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7780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6.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Konkluzje i perspektyw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0D4C0-0B1E-4F16-AA50-DD50CF76159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1. Cele wizualizacji danych wielowymiarowych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0920" indent="-250920">
              <a:lnSpc>
                <a:spcPct val="90000"/>
              </a:lnSpc>
              <a:spcBef>
                <a:spcPts val="1199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Poznanie danych poprzez określenie ich globalnej struktury, wykrywanie obecności klasterów i danych odstających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2040" indent="-220680">
              <a:lnSpc>
                <a:spcPct val="130000"/>
              </a:lnSpc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Jakie dane 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6204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Dane numeryczne (wystarczy możliwość określenia podobieństwa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6204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(dane medyczne: różnorodne skale, nieliniowa struktura.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62040" indent="-220680">
              <a:lnSpc>
                <a:spcPct val="130000"/>
              </a:lnSpc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Jaka wizualizacja 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6204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Przedstawiająca wykres punktowy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6204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(ważna informacja: relacje sąsiedztwa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6204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50920" indent="-25092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Ekstrakcja cech umożliwia zastosowanie niektórych kosztownych metod klasyfikacyjnych dla danych opisanych w dużej liczbie wymiarów</a:t>
            </a: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49EE6-5EF4-4CD7-B601-6BECECF0A96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2.1. Przegląd istniejących metod wizualizacji danych wielowymiarowych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02920" y="1447560"/>
            <a:ext cx="85028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0920" indent="0">
              <a:spcBef>
                <a:spcPts val="1400"/>
              </a:spcBef>
              <a:buNone/>
              <a:tabLst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50920" indent="0">
              <a:spcBef>
                <a:spcPts val="1400"/>
              </a:spcBef>
              <a:buNone/>
              <a:tabLst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907920" y="1295280"/>
          <a:ext cx="8502480" cy="3283200"/>
        </p:xfrm>
        <a:graphic>
          <a:graphicData uri="http://schemas.openxmlformats.org/drawingml/2006/table">
            <a:tbl>
              <a:tblPr/>
              <a:tblGrid>
                <a:gridCol w="3459240"/>
                <a:gridCol w="1235880"/>
                <a:gridCol w="216000"/>
                <a:gridCol w="1038600"/>
                <a:gridCol w="329400"/>
                <a:gridCol w="2223360"/>
              </a:tblGrid>
              <a:tr h="7182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buClr>
                          <a:srgbClr val="40458c"/>
                        </a:buClr>
                        <a:buSzPct val="110000"/>
                        <a:buFont typeface="Symbol" charset="2"/>
                        <a:buChar char="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Metody liniowe: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91120"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Metoda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Metoda statystyczna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gridSpan="2"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Sieć neuronowa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Zachowana informacja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9320">
                <a:tc>
                  <a:txBody>
                    <a:bodyPr lIns="7632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Principal Components Analysis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7632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gridSpan="2">
                  <a:txBody>
                    <a:bodyPr lIns="7632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632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Wariancja danych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5960">
                <a:tc>
                  <a:txBody>
                    <a:bodyPr lIns="7632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Projection pursuit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7632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gridSpan="2">
                  <a:txBody>
                    <a:bodyPr lIns="7632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632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Wariancja i odległości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8600">
                <a:tc>
                  <a:txBody>
                    <a:bodyPr lIns="7632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Grand tour methods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7632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gridSpan="2">
                  <a:txBody>
                    <a:bodyPr lIns="7632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632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Dynamiczny obraz (przekroje)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F13E8-B879-40D3-B844-28F2EBC282C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2.2. Przegląd istniejących metod wizualizacji danych wielowymiarowych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907920" y="1371600"/>
          <a:ext cx="8502480" cy="4873680"/>
        </p:xfrm>
        <a:graphic>
          <a:graphicData uri="http://schemas.openxmlformats.org/drawingml/2006/table">
            <a:tbl>
              <a:tblPr/>
              <a:tblGrid>
                <a:gridCol w="3459240"/>
                <a:gridCol w="1235880"/>
                <a:gridCol w="216000"/>
                <a:gridCol w="1038600"/>
                <a:gridCol w="329400"/>
                <a:gridCol w="2223360"/>
              </a:tblGrid>
              <a:tr h="5101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40458c"/>
                        </a:buClr>
                        <a:buSzPct val="110000"/>
                        <a:buFont typeface="Symbol" charset="2"/>
                        <a:buChar char="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Metody nieliniowe: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81760"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Metoda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Metoda statystyczna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gridSpan="2"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Sieć neuronowa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Zachowana informacja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7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Multidimensional scaling (MDS)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Odległości lub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dane odmienności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NeuroScale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Odległości oraz dodatkowa wiedza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Curvilinear Components Analysis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Niektóre odległości („rozwijanie”)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8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Autoassociative feedforward neural network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Nieliniowe korelacje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9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Self-organizing maps (SOM)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Relacje sąsiedztwa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7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Generative Topographic Mapping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Odległości (statystycznie)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C9406-99E2-445F-AD65-9046CDDA56F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2.3. Analiza Składników Głównych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0920" indent="-250920">
              <a:lnSpc>
                <a:spcPct val="90000"/>
              </a:lnSpc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Poszukiwanie takiej liniowej transformacji danych, aby po transformacji dane miały największą wariancję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50920" indent="-250920">
              <a:lnSpc>
                <a:spcPct val="90000"/>
              </a:lnSpc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Wizualizacja polega na wykreśleniu dwóch pierwszych kierunków głównych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50920" indent="-250920">
              <a:lnSpc>
                <a:spcPct val="90000"/>
              </a:lnSpc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Dwie klasy metod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62040" indent="-220680">
              <a:lnSpc>
                <a:spcPct val="90000"/>
              </a:lnSpc>
              <a:spcBef>
                <a:spcPts val="9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Rozkład spektralny (SpD) macierzy korelacji danych: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S</a:t>
            </a:r>
            <a:r>
              <a:rPr b="0" lang="pl-PL" sz="2400" spc="-1" strike="noStrike" baseline="-25000">
                <a:solidFill>
                  <a:srgbClr val="40458c"/>
                </a:solidFill>
                <a:latin typeface="Tahoma"/>
              </a:rPr>
              <a:t>T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   =  C . D . C</a:t>
            </a:r>
            <a:r>
              <a:rPr b="0" lang="pl-PL" sz="2400" spc="-1" strike="noStrike" baseline="30000">
                <a:solidFill>
                  <a:srgbClr val="40458c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2040" indent="-220680">
              <a:lnSpc>
                <a:spcPct val="90000"/>
              </a:lnSpc>
              <a:spcBef>
                <a:spcPts val="9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Rozkład na wartości osobliwe (SVD) macierzy danych: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X</a:t>
            </a:r>
            <a:r>
              <a:rPr b="0" lang="pl-PL" sz="2400" spc="-1" strike="noStrike" baseline="-25000">
                <a:solidFill>
                  <a:srgbClr val="40458c"/>
                </a:solidFill>
                <a:latin typeface="Tahoma"/>
              </a:rPr>
              <a:t>B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  =  N . D . M</a:t>
            </a:r>
            <a:r>
              <a:rPr b="0" lang="pl-PL" sz="2400" spc="-1" strike="noStrike" baseline="30000">
                <a:solidFill>
                  <a:srgbClr val="40458c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2040" indent="-220680">
              <a:lnSpc>
                <a:spcPct val="90000"/>
              </a:lnSpc>
              <a:spcBef>
                <a:spcPts val="901"/>
              </a:spcBef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Przewaga numeryczna ostatniej metody (SVD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E328F-3E81-42B4-9A40-3F3A1A4CE25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2.4. Ograniczenia rzutowania liniowego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2" marL="108108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nie nadaje się do wizualizacji zbiorów o nieliniowej strukturze (przykład poniżej: 5-wymiarowy sympleks)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czułość na obecność danych odstających. („outliers”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Rzutowanie </a:t>
            </a:r>
            <a:r>
              <a:rPr b="1" lang="pl-PL" sz="2000" spc="-1" strike="noStrike">
                <a:solidFill>
                  <a:srgbClr val="40458c"/>
                </a:solidFill>
                <a:latin typeface="Tahoma"/>
              </a:rPr>
              <a:t>liniowe (PCA)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Rzutowanie </a:t>
            </a:r>
            <a:r>
              <a:rPr b="1" lang="pl-PL" sz="2000" spc="-1" strike="noStrike">
                <a:solidFill>
                  <a:srgbClr val="40458c"/>
                </a:solidFill>
                <a:latin typeface="Tahoma"/>
              </a:rPr>
              <a:t>nieliniowe (MDS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3 grupy (2,3 i 5) mieszane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6 grup odseparowan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24" name="simpPCAMDS" descr=""/>
          <p:cNvPicPr/>
          <p:nvPr/>
        </p:nvPicPr>
        <p:blipFill>
          <a:blip r:embed="rId1"/>
          <a:stretch/>
        </p:blipFill>
        <p:spPr>
          <a:xfrm>
            <a:off x="577800" y="2438280"/>
            <a:ext cx="8874000" cy="364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DF2E0-CE98-47BB-8C07-EBD1FDAC3EF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4T08:44:46Z</dcterms:created>
  <dc:creator>Elzbieta i Antoine Naud</dc:creator>
  <dc:description/>
  <dc:language>en-US</dc:language>
  <cp:lastModifiedBy>Antoine Naud</cp:lastModifiedBy>
  <cp:lastPrinted>2001-09-13T10:28:59Z</cp:lastPrinted>
  <dcterms:modified xsi:type="dcterms:W3CDTF">2001-09-13T10:41:40Z</dcterms:modified>
  <cp:revision>260</cp:revision>
  <dc:subject/>
  <dc:title>Neural and statistical methods for the visualization of multidimensional data</dc:title>
</cp:coreProperties>
</file>